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5739-B6E4-43CB-833C-2039884B531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 was known as the dominant power in 1914. They had the largest navy and their influence extended all over Europe. Germany was jealous of the power their navy gained and wanted to experience this power themselves. They joined the war when Germany invaded Belgium. Britain felt that this violated Belgium’s neutrality and therefore declared war on Germany, thus on all of the Central Powers. They used their forces to support their allies in battles such as supporting Italy when they were invaded by Austria and helping France on the Western Fro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bia became involved in the war after a Serb from the province of Austria-Hungary assassinated Archduke Franz Ferdinand. This caused the Ultimatum to be sent and the declaration of war on Serbia was sent. They were joined to the Entente Powers through the Russo-Serb alliance. This stated that Russia would protect Serbia were they to be attacked or forced into war. Their support extended out towards France, Britain and Italy due to all the other alliances formed in the Division on Europ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ance had sworn to support Russia if they were to take action against Austria-Hungary to protect Serbia, so after the assassination of Franz Ferdinand of Austria-Hungary, France helped out their allies when war was declared. They instantly joined the war due to Germany planning to invade their country through Belgium in what was known as the Schlieffen Plan. France and Britain used their forces to prevent the German armies advancing on Paris, pushing them east towards the Battle of Mar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fter Austria-Hungary declared war against Serbia, Russia announced to join the war on Serbia’s side on the 31</a:t>
            </a:r>
            <a:r>
              <a:rPr b="0" lang="en-AU" sz="1200" spc="-1" strike="noStrike" baseline="30000">
                <a:solidFill>
                  <a:srgbClr val="000000"/>
                </a:solidFill>
                <a:latin typeface="Arial"/>
              </a:rPr>
              <a:t>st</a:t>
            </a:r>
            <a:r>
              <a:rPr b="0" lang="en-AU" sz="1200" spc="-1" strike="noStrike">
                <a:solidFill>
                  <a:srgbClr val="000000"/>
                </a:solidFill>
                <a:latin typeface="Arial"/>
              </a:rPr>
              <a:t> of July. Germany tried to convince them to stop their protection through an ultimatum that stated that if Russia did not cease their mobilisation, then Germany would declare war on Russia. They had two major alliances. The one with Serbia that stated that if Serbia were to be attacked, Russia would protect them and one with France and Britain that was a major alliance and was the one that was known as the Triple Enten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irst World War was a war between the two powers; Central and Entente. Austria-Hungary was allied with Germany, Ottoman Empire and Italy (who later left to fight for the Entente powers) who made the Central Powers and Britain was with France, Russia, Serbia and later Italy and were known as the Entente, or Allied powers. The war originally began when Archduke of Austria-Hungary, Franz Ferdinand and his wife were assassinated while in Sarajevo, Serbia, on a diplomatic visit. This was the one moment when all the countries began to argue and quarrel, leading to the war, but each country had their own reason and there were many things many years before the war that ultimately led towards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map of the Division of Europe in 1914. It shows how the Central Powers were outnumbered in area size and the number of nations fighting on their side, and how the Entente Powers had the upper-hand on the population and are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ia-Hungary was a Dual Monarchy run by the rulers of Austria, the Habsburgs. The Archduke and his wife were visiting Serbia to discuss a possible alliance when a group of militants assassinated them. In anger, Austria-Hungary sent an ultimatum stating ten things they wanted from Serbia. When one of them was denied, the declared war on Serbia. This was not just the only reason for the declaration of war. Austria-Hungary were after more land and more countries under their rule and they also wanted to be known as the dominant power of Europe, instead of Britain holding that tit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attempt to gain popularity in Europe, Austria-Hungary went into negotiation with Germany and come out of it with an alliance stating that they would protect each other. So in response to Russia joining the war on Serbia’s side, Germany sent an ultimatum to Russia saying that if they did not cease mobilisation, they would declare war. When Russia refused to stop, Germany declared the second state of war on Russia on August 1</a:t>
            </a:r>
            <a:r>
              <a:rPr b="0" lang="en-US" sz="1200" spc="-1" strike="noStrike" baseline="30000">
                <a:solidFill>
                  <a:srgbClr val="000000"/>
                </a:solidFill>
                <a:latin typeface="Arial"/>
              </a:rPr>
              <a:t>st</a:t>
            </a:r>
            <a:r>
              <a:rPr b="0" lang="en-US" sz="1200" spc="-1" strike="noStrike">
                <a:solidFill>
                  <a:srgbClr val="000000"/>
                </a:solidFill>
                <a:latin typeface="Arial"/>
              </a:rPr>
              <a:t>, 1914. On the 2</a:t>
            </a:r>
            <a:r>
              <a:rPr b="0" lang="en-US" sz="1200" spc="-1" strike="noStrike" baseline="30000">
                <a:solidFill>
                  <a:srgbClr val="000000"/>
                </a:solidFill>
                <a:latin typeface="Arial"/>
              </a:rPr>
              <a:t>nd</a:t>
            </a:r>
            <a:r>
              <a:rPr b="0" lang="en-US" sz="1200" spc="-1" strike="noStrike">
                <a:solidFill>
                  <a:srgbClr val="000000"/>
                </a:solidFill>
                <a:latin typeface="Arial"/>
              </a:rPr>
              <a:t> of August, Germany sent an ultimatum to Belgium asking for safe passage to pass through to France. When they were denied, they marched onto Belgium and declared war on Fr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was committed to join war if Austria-Hungary or Germany were to enter, but they remained neutral when the war broke out. Encouraged by their secret treaty with Britain, Italy entered the war on the Entente Powers’ side and this caused a new war front to open on the border of Italy and Austria. The Austrians and the Germans advanced on Italy who was supported by the French and the British. The Entente Powers managed to drive them back. By October 1914, the Austrians were suing them for pea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toman Empire was a neutral state when the First War originally broke out. In October 1914, the Ottoman Empire declared was on the Entente Powers because the English did not deliver two ships to them and Germany managed to replace their loss. They were not going to join the war until a mistake on the Entente’s part, they were believed to be on the Central Power’s side because they let Germany use their lands and seas. Because of this, Britain and France both declared war on the Ottoma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034BD-2392-477D-B6F2-0F9051F66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0A0EE-CF63-40FE-A9C7-BFA164CBB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451C8-D6EA-4B3D-AFB7-1EBE70C55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C0B74-4E08-4DA4-8A24-0ABDB7D95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7285E-CE20-4C27-8061-9A373DFB2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8EA81-426A-4E73-97E6-1E32C4A54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F1A20-C71E-4515-B051-1EA3F30A8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566C3-25A8-4860-A4AC-A8998B44C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8AB04-AE0C-4347-BC23-E05A9A2EE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9D958-C0E1-4207-A574-8D5287B1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EF24-0EC6-42CE-AA4C-753F2BA89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AE7BA-5CB3-4A07-8DCD-34BE5351B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058B-2524-432F-964C-2529EB599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a/ae/Flag_of_the_United_Kingdom.svg" TargetMode="External"/><Relationship Id="rId2" Type="http://schemas.openxmlformats.org/officeDocument/2006/relationships/image" Target="../media/image12.png"/><Relationship Id="rId3" Type="http://schemas.openxmlformats.org/officeDocument/2006/relationships/hyperlink" Target="http://en.wikipedia.org/wiki/File:Location_Great_Britan_and_Ireland.PNG"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c/c3/Flag_of_France.svg" TargetMode="External"/><Relationship Id="rId2" Type="http://schemas.openxmlformats.org/officeDocument/2006/relationships/image" Target="../media/image16.png"/><Relationship Id="rId3" Type="http://schemas.openxmlformats.org/officeDocument/2006/relationships/hyperlink" Target="http://en.wikipedia.org/wiki/File:French_third_republic,_second_version.PNG" TargetMode="External"/><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f/f3/Flag_of_Russia.svg" TargetMode="External"/><Relationship Id="rId2" Type="http://schemas.openxmlformats.org/officeDocument/2006/relationships/image" Target="../media/image18.png"/><Relationship Id="rId3" Type="http://schemas.openxmlformats.org/officeDocument/2006/relationships/hyperlink" Target="http://en.wikipedia.org/wiki/File:Imperio_Ruso_zenith.PNG" TargetMode="External"/><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German_Empire,_Wilhelminian_third_version.png.PNG"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a/ad/Flag_of_Italy_%281861-1946%29.svg"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e/e3/Ottoman_Flag.svg" TargetMode="External"/><Relationship Id="rId2" Type="http://schemas.openxmlformats.org/officeDocument/2006/relationships/image" Target="../media/image10.png"/><Relationship Id="rId3" Type="http://schemas.openxmlformats.org/officeDocument/2006/relationships/hyperlink" Target="http://en.wikipedia.org/wiki/File:OttomanEmpireIn1683.png" TargetMode="External"/><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5"/>
            </a:gs>
            <a:gs pos="100000">
              <a:srgbClr val="00002e"/>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rcRect l="0" t="0" r="0" b="44636"/>
          <a:stretch/>
        </p:blipFill>
        <p:spPr>
          <a:xfrm>
            <a:off x="0" y="836640"/>
            <a:ext cx="9144000" cy="4248000"/>
          </a:xfrm>
          <a:prstGeom prst="rect">
            <a:avLst/>
          </a:prstGeom>
          <a:ln w="0">
            <a:noFill/>
          </a:ln>
        </p:spPr>
      </p:pic>
      <p:sp>
        <p:nvSpPr>
          <p:cNvPr id="49" name=""/>
          <p:cNvSpPr/>
          <p:nvPr/>
        </p:nvSpPr>
        <p:spPr>
          <a:xfrm flipH="1" rot="21185400">
            <a:off x="538560" y="3141720"/>
            <a:ext cx="9215640" cy="4111560"/>
          </a:xfrm>
          <a:custGeom>
            <a:avLst/>
            <a:gdLst/>
            <a:ahLst/>
            <a:rect l="l" t="t" r="r" b="b"/>
            <a:pathLst>
              <a:path w="6451" h="2590">
                <a:moveTo>
                  <a:pt x="76" y="2256"/>
                </a:moveTo>
                <a:cubicBezTo>
                  <a:pt x="57" y="2178"/>
                  <a:pt x="38" y="2101"/>
                  <a:pt x="26" y="2022"/>
                </a:cubicBezTo>
                <a:cubicBezTo>
                  <a:pt x="31" y="1895"/>
                  <a:pt x="30" y="1791"/>
                  <a:pt x="59" y="1672"/>
                </a:cubicBezTo>
                <a:cubicBezTo>
                  <a:pt x="50" y="1625"/>
                  <a:pt x="39" y="1581"/>
                  <a:pt x="17" y="1538"/>
                </a:cubicBezTo>
                <a:cubicBezTo>
                  <a:pt x="9" y="1440"/>
                  <a:pt x="0" y="1342"/>
                  <a:pt x="26" y="1246"/>
                </a:cubicBezTo>
                <a:cubicBezTo>
                  <a:pt x="31" y="1195"/>
                  <a:pt x="51" y="1001"/>
                  <a:pt x="59" y="996"/>
                </a:cubicBezTo>
                <a:cubicBezTo>
                  <a:pt x="153" y="932"/>
                  <a:pt x="220" y="864"/>
                  <a:pt x="335" y="837"/>
                </a:cubicBezTo>
                <a:cubicBezTo>
                  <a:pt x="382" y="843"/>
                  <a:pt x="430" y="845"/>
                  <a:pt x="477" y="854"/>
                </a:cubicBezTo>
                <a:cubicBezTo>
                  <a:pt x="507" y="860"/>
                  <a:pt x="566" y="934"/>
                  <a:pt x="593" y="954"/>
                </a:cubicBezTo>
                <a:cubicBezTo>
                  <a:pt x="686" y="1024"/>
                  <a:pt x="795" y="1077"/>
                  <a:pt x="902" y="1121"/>
                </a:cubicBezTo>
                <a:cubicBezTo>
                  <a:pt x="931" y="1133"/>
                  <a:pt x="964" y="1131"/>
                  <a:pt x="994" y="1138"/>
                </a:cubicBezTo>
                <a:cubicBezTo>
                  <a:pt x="1069" y="1132"/>
                  <a:pt x="1145" y="1133"/>
                  <a:pt x="1220" y="1121"/>
                </a:cubicBezTo>
                <a:cubicBezTo>
                  <a:pt x="1283" y="1111"/>
                  <a:pt x="1351" y="1013"/>
                  <a:pt x="1420" y="996"/>
                </a:cubicBezTo>
                <a:cubicBezTo>
                  <a:pt x="1505" y="911"/>
                  <a:pt x="1624" y="868"/>
                  <a:pt x="1720" y="795"/>
                </a:cubicBezTo>
                <a:cubicBezTo>
                  <a:pt x="1738" y="761"/>
                  <a:pt x="1773" y="707"/>
                  <a:pt x="1804" y="687"/>
                </a:cubicBezTo>
                <a:cubicBezTo>
                  <a:pt x="1852" y="616"/>
                  <a:pt x="1787" y="706"/>
                  <a:pt x="1846" y="645"/>
                </a:cubicBezTo>
                <a:cubicBezTo>
                  <a:pt x="1853" y="638"/>
                  <a:pt x="1856" y="628"/>
                  <a:pt x="1862" y="620"/>
                </a:cubicBezTo>
                <a:cubicBezTo>
                  <a:pt x="1869" y="611"/>
                  <a:pt x="1879" y="603"/>
                  <a:pt x="1887" y="595"/>
                </a:cubicBezTo>
                <a:cubicBezTo>
                  <a:pt x="1906" y="543"/>
                  <a:pt x="1950" y="516"/>
                  <a:pt x="1988" y="478"/>
                </a:cubicBezTo>
                <a:cubicBezTo>
                  <a:pt x="2084" y="382"/>
                  <a:pt x="2182" y="280"/>
                  <a:pt x="2321" y="253"/>
                </a:cubicBezTo>
                <a:cubicBezTo>
                  <a:pt x="2354" y="240"/>
                  <a:pt x="2378" y="229"/>
                  <a:pt x="2413" y="219"/>
                </a:cubicBezTo>
                <a:cubicBezTo>
                  <a:pt x="2455" y="207"/>
                  <a:pt x="2539" y="186"/>
                  <a:pt x="2539" y="186"/>
                </a:cubicBezTo>
                <a:cubicBezTo>
                  <a:pt x="2581" y="189"/>
                  <a:pt x="2623" y="186"/>
                  <a:pt x="2664" y="194"/>
                </a:cubicBezTo>
                <a:cubicBezTo>
                  <a:pt x="2680" y="197"/>
                  <a:pt x="2691" y="212"/>
                  <a:pt x="2705" y="219"/>
                </a:cubicBezTo>
                <a:cubicBezTo>
                  <a:pt x="2770" y="252"/>
                  <a:pt x="2870" y="294"/>
                  <a:pt x="2939" y="311"/>
                </a:cubicBezTo>
                <a:cubicBezTo>
                  <a:pt x="2988" y="344"/>
                  <a:pt x="3040" y="350"/>
                  <a:pt x="3098" y="361"/>
                </a:cubicBezTo>
                <a:cubicBezTo>
                  <a:pt x="3185" y="378"/>
                  <a:pt x="3269" y="411"/>
                  <a:pt x="3357" y="428"/>
                </a:cubicBezTo>
                <a:cubicBezTo>
                  <a:pt x="3498" y="410"/>
                  <a:pt x="3640" y="389"/>
                  <a:pt x="3782" y="378"/>
                </a:cubicBezTo>
                <a:cubicBezTo>
                  <a:pt x="3868" y="349"/>
                  <a:pt x="3947" y="301"/>
                  <a:pt x="4033" y="278"/>
                </a:cubicBezTo>
                <a:cubicBezTo>
                  <a:pt x="4091" y="286"/>
                  <a:pt x="4151" y="288"/>
                  <a:pt x="4208" y="303"/>
                </a:cubicBezTo>
                <a:cubicBezTo>
                  <a:pt x="4248" y="314"/>
                  <a:pt x="4283" y="392"/>
                  <a:pt x="4325" y="420"/>
                </a:cubicBezTo>
                <a:cubicBezTo>
                  <a:pt x="4447" y="417"/>
                  <a:pt x="4570" y="416"/>
                  <a:pt x="4692" y="411"/>
                </a:cubicBezTo>
                <a:cubicBezTo>
                  <a:pt x="4748" y="409"/>
                  <a:pt x="4717" y="403"/>
                  <a:pt x="4759" y="395"/>
                </a:cubicBezTo>
                <a:cubicBezTo>
                  <a:pt x="4795" y="388"/>
                  <a:pt x="4868" y="378"/>
                  <a:pt x="4868" y="378"/>
                </a:cubicBezTo>
                <a:cubicBezTo>
                  <a:pt x="4898" y="362"/>
                  <a:pt x="4927" y="355"/>
                  <a:pt x="4959" y="345"/>
                </a:cubicBezTo>
                <a:cubicBezTo>
                  <a:pt x="4997" y="319"/>
                  <a:pt x="5040" y="315"/>
                  <a:pt x="5076" y="286"/>
                </a:cubicBezTo>
                <a:cubicBezTo>
                  <a:pt x="5156" y="223"/>
                  <a:pt x="5277" y="73"/>
                  <a:pt x="5377" y="52"/>
                </a:cubicBezTo>
                <a:cubicBezTo>
                  <a:pt x="5459" y="0"/>
                  <a:pt x="5527" y="31"/>
                  <a:pt x="5636" y="36"/>
                </a:cubicBezTo>
                <a:cubicBezTo>
                  <a:pt x="5706" y="58"/>
                  <a:pt x="5780" y="60"/>
                  <a:pt x="5853" y="69"/>
                </a:cubicBezTo>
                <a:cubicBezTo>
                  <a:pt x="5889" y="80"/>
                  <a:pt x="5925" y="91"/>
                  <a:pt x="5961" y="102"/>
                </a:cubicBezTo>
                <a:cubicBezTo>
                  <a:pt x="6008" y="116"/>
                  <a:pt x="6040" y="161"/>
                  <a:pt x="6086" y="178"/>
                </a:cubicBezTo>
                <a:cubicBezTo>
                  <a:pt x="6135" y="227"/>
                  <a:pt x="6185" y="273"/>
                  <a:pt x="6228" y="328"/>
                </a:cubicBezTo>
                <a:cubicBezTo>
                  <a:pt x="6239" y="358"/>
                  <a:pt x="6254" y="380"/>
                  <a:pt x="6262" y="411"/>
                </a:cubicBezTo>
                <a:cubicBezTo>
                  <a:pt x="6292" y="634"/>
                  <a:pt x="6247" y="270"/>
                  <a:pt x="6237" y="887"/>
                </a:cubicBezTo>
                <a:cubicBezTo>
                  <a:pt x="6237" y="911"/>
                  <a:pt x="6255" y="931"/>
                  <a:pt x="6262" y="954"/>
                </a:cubicBezTo>
                <a:cubicBezTo>
                  <a:pt x="6288" y="1037"/>
                  <a:pt x="6321" y="1119"/>
                  <a:pt x="6337" y="1204"/>
                </a:cubicBezTo>
                <a:cubicBezTo>
                  <a:pt x="6370" y="1379"/>
                  <a:pt x="6413" y="1554"/>
                  <a:pt x="6437" y="1730"/>
                </a:cubicBezTo>
                <a:cubicBezTo>
                  <a:pt x="6436" y="1798"/>
                  <a:pt x="6451" y="2204"/>
                  <a:pt x="6379" y="2348"/>
                </a:cubicBezTo>
                <a:cubicBezTo>
                  <a:pt x="6345" y="2417"/>
                  <a:pt x="6258" y="2412"/>
                  <a:pt x="6195" y="2431"/>
                </a:cubicBezTo>
                <a:cubicBezTo>
                  <a:pt x="6134" y="2449"/>
                  <a:pt x="6113" y="2463"/>
                  <a:pt x="6061" y="2473"/>
                </a:cubicBezTo>
                <a:cubicBezTo>
                  <a:pt x="6010" y="2482"/>
                  <a:pt x="5960" y="2488"/>
                  <a:pt x="5911" y="2507"/>
                </a:cubicBezTo>
                <a:cubicBezTo>
                  <a:pt x="5818" y="2543"/>
                  <a:pt x="5841" y="2547"/>
                  <a:pt x="5761" y="2565"/>
                </a:cubicBezTo>
                <a:cubicBezTo>
                  <a:pt x="5656" y="2589"/>
                  <a:pt x="5542" y="2590"/>
                  <a:pt x="5435" y="2590"/>
                </a:cubicBezTo>
                <a:lnTo>
                  <a:pt x="12" y="2269"/>
                </a:lnTo>
              </a:path>
            </a:pathLst>
          </a:custGeom>
          <a:solidFill>
            <a:srgbClr val="0906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rot="20750400">
            <a:off x="-252720" y="3573360"/>
            <a:ext cx="8929800" cy="4111560"/>
          </a:xfrm>
          <a:custGeom>
            <a:avLst/>
            <a:gdLst/>
            <a:ahLst/>
            <a:rect l="l" t="t" r="r" b="b"/>
            <a:pathLst>
              <a:path w="6451" h="2590">
                <a:moveTo>
                  <a:pt x="76" y="2256"/>
                </a:moveTo>
                <a:cubicBezTo>
                  <a:pt x="57" y="2178"/>
                  <a:pt x="38" y="2101"/>
                  <a:pt x="26" y="2022"/>
                </a:cubicBezTo>
                <a:cubicBezTo>
                  <a:pt x="31" y="1895"/>
                  <a:pt x="30" y="1791"/>
                  <a:pt x="59" y="1672"/>
                </a:cubicBezTo>
                <a:cubicBezTo>
                  <a:pt x="50" y="1625"/>
                  <a:pt x="39" y="1581"/>
                  <a:pt x="17" y="1538"/>
                </a:cubicBezTo>
                <a:cubicBezTo>
                  <a:pt x="9" y="1440"/>
                  <a:pt x="0" y="1342"/>
                  <a:pt x="26" y="1246"/>
                </a:cubicBezTo>
                <a:cubicBezTo>
                  <a:pt x="31" y="1195"/>
                  <a:pt x="51" y="1001"/>
                  <a:pt x="59" y="996"/>
                </a:cubicBezTo>
                <a:cubicBezTo>
                  <a:pt x="153" y="932"/>
                  <a:pt x="220" y="864"/>
                  <a:pt x="335" y="837"/>
                </a:cubicBezTo>
                <a:cubicBezTo>
                  <a:pt x="382" y="843"/>
                  <a:pt x="430" y="845"/>
                  <a:pt x="477" y="854"/>
                </a:cubicBezTo>
                <a:cubicBezTo>
                  <a:pt x="507" y="860"/>
                  <a:pt x="566" y="934"/>
                  <a:pt x="593" y="954"/>
                </a:cubicBezTo>
                <a:cubicBezTo>
                  <a:pt x="686" y="1024"/>
                  <a:pt x="795" y="1077"/>
                  <a:pt x="902" y="1121"/>
                </a:cubicBezTo>
                <a:cubicBezTo>
                  <a:pt x="931" y="1133"/>
                  <a:pt x="964" y="1131"/>
                  <a:pt x="994" y="1138"/>
                </a:cubicBezTo>
                <a:cubicBezTo>
                  <a:pt x="1069" y="1132"/>
                  <a:pt x="1145" y="1133"/>
                  <a:pt x="1220" y="1121"/>
                </a:cubicBezTo>
                <a:cubicBezTo>
                  <a:pt x="1283" y="1111"/>
                  <a:pt x="1351" y="1013"/>
                  <a:pt x="1420" y="996"/>
                </a:cubicBezTo>
                <a:cubicBezTo>
                  <a:pt x="1505" y="911"/>
                  <a:pt x="1624" y="868"/>
                  <a:pt x="1720" y="795"/>
                </a:cubicBezTo>
                <a:cubicBezTo>
                  <a:pt x="1738" y="761"/>
                  <a:pt x="1773" y="707"/>
                  <a:pt x="1804" y="687"/>
                </a:cubicBezTo>
                <a:cubicBezTo>
                  <a:pt x="1852" y="616"/>
                  <a:pt x="1787" y="706"/>
                  <a:pt x="1846" y="645"/>
                </a:cubicBezTo>
                <a:cubicBezTo>
                  <a:pt x="1853" y="638"/>
                  <a:pt x="1856" y="628"/>
                  <a:pt x="1862" y="620"/>
                </a:cubicBezTo>
                <a:cubicBezTo>
                  <a:pt x="1869" y="611"/>
                  <a:pt x="1879" y="603"/>
                  <a:pt x="1887" y="595"/>
                </a:cubicBezTo>
                <a:cubicBezTo>
                  <a:pt x="1906" y="543"/>
                  <a:pt x="1950" y="516"/>
                  <a:pt x="1988" y="478"/>
                </a:cubicBezTo>
                <a:cubicBezTo>
                  <a:pt x="2084" y="382"/>
                  <a:pt x="2182" y="280"/>
                  <a:pt x="2321" y="253"/>
                </a:cubicBezTo>
                <a:cubicBezTo>
                  <a:pt x="2354" y="240"/>
                  <a:pt x="2378" y="229"/>
                  <a:pt x="2413" y="219"/>
                </a:cubicBezTo>
                <a:cubicBezTo>
                  <a:pt x="2455" y="207"/>
                  <a:pt x="2539" y="186"/>
                  <a:pt x="2539" y="186"/>
                </a:cubicBezTo>
                <a:cubicBezTo>
                  <a:pt x="2581" y="189"/>
                  <a:pt x="2623" y="186"/>
                  <a:pt x="2664" y="194"/>
                </a:cubicBezTo>
                <a:cubicBezTo>
                  <a:pt x="2680" y="197"/>
                  <a:pt x="2691" y="212"/>
                  <a:pt x="2705" y="219"/>
                </a:cubicBezTo>
                <a:cubicBezTo>
                  <a:pt x="2770" y="252"/>
                  <a:pt x="2870" y="294"/>
                  <a:pt x="2939" y="311"/>
                </a:cubicBezTo>
                <a:cubicBezTo>
                  <a:pt x="2988" y="344"/>
                  <a:pt x="3040" y="350"/>
                  <a:pt x="3098" y="361"/>
                </a:cubicBezTo>
                <a:cubicBezTo>
                  <a:pt x="3185" y="378"/>
                  <a:pt x="3269" y="411"/>
                  <a:pt x="3357" y="428"/>
                </a:cubicBezTo>
                <a:cubicBezTo>
                  <a:pt x="3498" y="410"/>
                  <a:pt x="3640" y="389"/>
                  <a:pt x="3782" y="378"/>
                </a:cubicBezTo>
                <a:cubicBezTo>
                  <a:pt x="3868" y="349"/>
                  <a:pt x="3947" y="301"/>
                  <a:pt x="4033" y="278"/>
                </a:cubicBezTo>
                <a:cubicBezTo>
                  <a:pt x="4091" y="286"/>
                  <a:pt x="4151" y="288"/>
                  <a:pt x="4208" y="303"/>
                </a:cubicBezTo>
                <a:cubicBezTo>
                  <a:pt x="4248" y="314"/>
                  <a:pt x="4283" y="392"/>
                  <a:pt x="4325" y="420"/>
                </a:cubicBezTo>
                <a:cubicBezTo>
                  <a:pt x="4447" y="417"/>
                  <a:pt x="4570" y="416"/>
                  <a:pt x="4692" y="411"/>
                </a:cubicBezTo>
                <a:cubicBezTo>
                  <a:pt x="4748" y="409"/>
                  <a:pt x="4717" y="403"/>
                  <a:pt x="4759" y="395"/>
                </a:cubicBezTo>
                <a:cubicBezTo>
                  <a:pt x="4795" y="388"/>
                  <a:pt x="4868" y="378"/>
                  <a:pt x="4868" y="378"/>
                </a:cubicBezTo>
                <a:cubicBezTo>
                  <a:pt x="4898" y="362"/>
                  <a:pt x="4927" y="355"/>
                  <a:pt x="4959" y="345"/>
                </a:cubicBezTo>
                <a:cubicBezTo>
                  <a:pt x="4997" y="319"/>
                  <a:pt x="5040" y="315"/>
                  <a:pt x="5076" y="286"/>
                </a:cubicBezTo>
                <a:cubicBezTo>
                  <a:pt x="5156" y="223"/>
                  <a:pt x="5277" y="73"/>
                  <a:pt x="5377" y="52"/>
                </a:cubicBezTo>
                <a:cubicBezTo>
                  <a:pt x="5459" y="0"/>
                  <a:pt x="5527" y="31"/>
                  <a:pt x="5636" y="36"/>
                </a:cubicBezTo>
                <a:cubicBezTo>
                  <a:pt x="5706" y="58"/>
                  <a:pt x="5780" y="60"/>
                  <a:pt x="5853" y="69"/>
                </a:cubicBezTo>
                <a:cubicBezTo>
                  <a:pt x="5889" y="80"/>
                  <a:pt x="5925" y="91"/>
                  <a:pt x="5961" y="102"/>
                </a:cubicBezTo>
                <a:cubicBezTo>
                  <a:pt x="6008" y="116"/>
                  <a:pt x="6040" y="161"/>
                  <a:pt x="6086" y="178"/>
                </a:cubicBezTo>
                <a:cubicBezTo>
                  <a:pt x="6135" y="227"/>
                  <a:pt x="6185" y="273"/>
                  <a:pt x="6228" y="328"/>
                </a:cubicBezTo>
                <a:cubicBezTo>
                  <a:pt x="6239" y="358"/>
                  <a:pt x="6254" y="380"/>
                  <a:pt x="6262" y="411"/>
                </a:cubicBezTo>
                <a:cubicBezTo>
                  <a:pt x="6292" y="634"/>
                  <a:pt x="6247" y="270"/>
                  <a:pt x="6237" y="887"/>
                </a:cubicBezTo>
                <a:cubicBezTo>
                  <a:pt x="6237" y="911"/>
                  <a:pt x="6255" y="931"/>
                  <a:pt x="6262" y="954"/>
                </a:cubicBezTo>
                <a:cubicBezTo>
                  <a:pt x="6288" y="1037"/>
                  <a:pt x="6321" y="1119"/>
                  <a:pt x="6337" y="1204"/>
                </a:cubicBezTo>
                <a:cubicBezTo>
                  <a:pt x="6370" y="1379"/>
                  <a:pt x="6413" y="1554"/>
                  <a:pt x="6437" y="1730"/>
                </a:cubicBezTo>
                <a:cubicBezTo>
                  <a:pt x="6436" y="1798"/>
                  <a:pt x="6451" y="2204"/>
                  <a:pt x="6379" y="2348"/>
                </a:cubicBezTo>
                <a:cubicBezTo>
                  <a:pt x="6345" y="2417"/>
                  <a:pt x="6258" y="2412"/>
                  <a:pt x="6195" y="2431"/>
                </a:cubicBezTo>
                <a:cubicBezTo>
                  <a:pt x="6134" y="2449"/>
                  <a:pt x="6113" y="2463"/>
                  <a:pt x="6061" y="2473"/>
                </a:cubicBezTo>
                <a:cubicBezTo>
                  <a:pt x="6010" y="2482"/>
                  <a:pt x="5960" y="2488"/>
                  <a:pt x="5911" y="2507"/>
                </a:cubicBezTo>
                <a:cubicBezTo>
                  <a:pt x="5818" y="2543"/>
                  <a:pt x="5841" y="2547"/>
                  <a:pt x="5761" y="2565"/>
                </a:cubicBezTo>
                <a:cubicBezTo>
                  <a:pt x="5656" y="2589"/>
                  <a:pt x="5542" y="2590"/>
                  <a:pt x="5435" y="2590"/>
                </a:cubicBezTo>
                <a:lnTo>
                  <a:pt x="12" y="2269"/>
                </a:lnTo>
              </a:path>
            </a:pathLst>
          </a:custGeom>
          <a:solidFill>
            <a:srgbClr val="140d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437000"/>
            <a:ext cx="10240920" cy="4111560"/>
          </a:xfrm>
          <a:custGeom>
            <a:avLst/>
            <a:gdLst/>
            <a:ahLst/>
            <a:rect l="l" t="t" r="r" b="b"/>
            <a:pathLst>
              <a:path w="6451" h="2590">
                <a:moveTo>
                  <a:pt x="76" y="2256"/>
                </a:moveTo>
                <a:cubicBezTo>
                  <a:pt x="57" y="2178"/>
                  <a:pt x="38" y="2101"/>
                  <a:pt x="26" y="2022"/>
                </a:cubicBezTo>
                <a:cubicBezTo>
                  <a:pt x="31" y="1895"/>
                  <a:pt x="30" y="1791"/>
                  <a:pt x="59" y="1672"/>
                </a:cubicBezTo>
                <a:cubicBezTo>
                  <a:pt x="50" y="1625"/>
                  <a:pt x="39" y="1581"/>
                  <a:pt x="17" y="1538"/>
                </a:cubicBezTo>
                <a:cubicBezTo>
                  <a:pt x="9" y="1440"/>
                  <a:pt x="0" y="1342"/>
                  <a:pt x="26" y="1246"/>
                </a:cubicBezTo>
                <a:cubicBezTo>
                  <a:pt x="31" y="1195"/>
                  <a:pt x="51" y="1001"/>
                  <a:pt x="59" y="996"/>
                </a:cubicBezTo>
                <a:cubicBezTo>
                  <a:pt x="153" y="932"/>
                  <a:pt x="220" y="864"/>
                  <a:pt x="335" y="837"/>
                </a:cubicBezTo>
                <a:cubicBezTo>
                  <a:pt x="382" y="843"/>
                  <a:pt x="430" y="845"/>
                  <a:pt x="477" y="854"/>
                </a:cubicBezTo>
                <a:cubicBezTo>
                  <a:pt x="507" y="860"/>
                  <a:pt x="566" y="934"/>
                  <a:pt x="593" y="954"/>
                </a:cubicBezTo>
                <a:cubicBezTo>
                  <a:pt x="686" y="1024"/>
                  <a:pt x="795" y="1077"/>
                  <a:pt x="902" y="1121"/>
                </a:cubicBezTo>
                <a:cubicBezTo>
                  <a:pt x="931" y="1133"/>
                  <a:pt x="964" y="1131"/>
                  <a:pt x="994" y="1138"/>
                </a:cubicBezTo>
                <a:cubicBezTo>
                  <a:pt x="1069" y="1132"/>
                  <a:pt x="1145" y="1133"/>
                  <a:pt x="1220" y="1121"/>
                </a:cubicBezTo>
                <a:cubicBezTo>
                  <a:pt x="1283" y="1111"/>
                  <a:pt x="1351" y="1013"/>
                  <a:pt x="1420" y="996"/>
                </a:cubicBezTo>
                <a:cubicBezTo>
                  <a:pt x="1505" y="911"/>
                  <a:pt x="1624" y="868"/>
                  <a:pt x="1720" y="795"/>
                </a:cubicBezTo>
                <a:cubicBezTo>
                  <a:pt x="1738" y="761"/>
                  <a:pt x="1773" y="707"/>
                  <a:pt x="1804" y="687"/>
                </a:cubicBezTo>
                <a:cubicBezTo>
                  <a:pt x="1852" y="616"/>
                  <a:pt x="1787" y="706"/>
                  <a:pt x="1846" y="645"/>
                </a:cubicBezTo>
                <a:cubicBezTo>
                  <a:pt x="1853" y="638"/>
                  <a:pt x="1856" y="628"/>
                  <a:pt x="1862" y="620"/>
                </a:cubicBezTo>
                <a:cubicBezTo>
                  <a:pt x="1869" y="611"/>
                  <a:pt x="1879" y="603"/>
                  <a:pt x="1887" y="595"/>
                </a:cubicBezTo>
                <a:cubicBezTo>
                  <a:pt x="1906" y="543"/>
                  <a:pt x="1950" y="516"/>
                  <a:pt x="1988" y="478"/>
                </a:cubicBezTo>
                <a:cubicBezTo>
                  <a:pt x="2084" y="382"/>
                  <a:pt x="2182" y="280"/>
                  <a:pt x="2321" y="253"/>
                </a:cubicBezTo>
                <a:cubicBezTo>
                  <a:pt x="2354" y="240"/>
                  <a:pt x="2378" y="229"/>
                  <a:pt x="2413" y="219"/>
                </a:cubicBezTo>
                <a:cubicBezTo>
                  <a:pt x="2455" y="207"/>
                  <a:pt x="2539" y="186"/>
                  <a:pt x="2539" y="186"/>
                </a:cubicBezTo>
                <a:cubicBezTo>
                  <a:pt x="2581" y="189"/>
                  <a:pt x="2623" y="186"/>
                  <a:pt x="2664" y="194"/>
                </a:cubicBezTo>
                <a:cubicBezTo>
                  <a:pt x="2680" y="197"/>
                  <a:pt x="2691" y="212"/>
                  <a:pt x="2705" y="219"/>
                </a:cubicBezTo>
                <a:cubicBezTo>
                  <a:pt x="2770" y="252"/>
                  <a:pt x="2870" y="294"/>
                  <a:pt x="2939" y="311"/>
                </a:cubicBezTo>
                <a:cubicBezTo>
                  <a:pt x="2988" y="344"/>
                  <a:pt x="3040" y="350"/>
                  <a:pt x="3098" y="361"/>
                </a:cubicBezTo>
                <a:cubicBezTo>
                  <a:pt x="3185" y="378"/>
                  <a:pt x="3269" y="411"/>
                  <a:pt x="3357" y="428"/>
                </a:cubicBezTo>
                <a:cubicBezTo>
                  <a:pt x="3498" y="410"/>
                  <a:pt x="3640" y="389"/>
                  <a:pt x="3782" y="378"/>
                </a:cubicBezTo>
                <a:cubicBezTo>
                  <a:pt x="3868" y="349"/>
                  <a:pt x="3947" y="301"/>
                  <a:pt x="4033" y="278"/>
                </a:cubicBezTo>
                <a:cubicBezTo>
                  <a:pt x="4091" y="286"/>
                  <a:pt x="4151" y="288"/>
                  <a:pt x="4208" y="303"/>
                </a:cubicBezTo>
                <a:cubicBezTo>
                  <a:pt x="4248" y="314"/>
                  <a:pt x="4283" y="392"/>
                  <a:pt x="4325" y="420"/>
                </a:cubicBezTo>
                <a:cubicBezTo>
                  <a:pt x="4447" y="417"/>
                  <a:pt x="4570" y="416"/>
                  <a:pt x="4692" y="411"/>
                </a:cubicBezTo>
                <a:cubicBezTo>
                  <a:pt x="4748" y="409"/>
                  <a:pt x="4717" y="403"/>
                  <a:pt x="4759" y="395"/>
                </a:cubicBezTo>
                <a:cubicBezTo>
                  <a:pt x="4795" y="388"/>
                  <a:pt x="4868" y="378"/>
                  <a:pt x="4868" y="378"/>
                </a:cubicBezTo>
                <a:cubicBezTo>
                  <a:pt x="4898" y="362"/>
                  <a:pt x="4927" y="355"/>
                  <a:pt x="4959" y="345"/>
                </a:cubicBezTo>
                <a:cubicBezTo>
                  <a:pt x="4997" y="319"/>
                  <a:pt x="5040" y="315"/>
                  <a:pt x="5076" y="286"/>
                </a:cubicBezTo>
                <a:cubicBezTo>
                  <a:pt x="5156" y="223"/>
                  <a:pt x="5277" y="73"/>
                  <a:pt x="5377" y="52"/>
                </a:cubicBezTo>
                <a:cubicBezTo>
                  <a:pt x="5459" y="0"/>
                  <a:pt x="5527" y="31"/>
                  <a:pt x="5636" y="36"/>
                </a:cubicBezTo>
                <a:cubicBezTo>
                  <a:pt x="5706" y="58"/>
                  <a:pt x="5780" y="60"/>
                  <a:pt x="5853" y="69"/>
                </a:cubicBezTo>
                <a:cubicBezTo>
                  <a:pt x="5889" y="80"/>
                  <a:pt x="5925" y="91"/>
                  <a:pt x="5961" y="102"/>
                </a:cubicBezTo>
                <a:cubicBezTo>
                  <a:pt x="6008" y="116"/>
                  <a:pt x="6040" y="161"/>
                  <a:pt x="6086" y="178"/>
                </a:cubicBezTo>
                <a:cubicBezTo>
                  <a:pt x="6135" y="227"/>
                  <a:pt x="6185" y="273"/>
                  <a:pt x="6228" y="328"/>
                </a:cubicBezTo>
                <a:cubicBezTo>
                  <a:pt x="6239" y="358"/>
                  <a:pt x="6254" y="380"/>
                  <a:pt x="6262" y="411"/>
                </a:cubicBezTo>
                <a:cubicBezTo>
                  <a:pt x="6292" y="634"/>
                  <a:pt x="6247" y="270"/>
                  <a:pt x="6237" y="887"/>
                </a:cubicBezTo>
                <a:cubicBezTo>
                  <a:pt x="6237" y="911"/>
                  <a:pt x="6255" y="931"/>
                  <a:pt x="6262" y="954"/>
                </a:cubicBezTo>
                <a:cubicBezTo>
                  <a:pt x="6288" y="1037"/>
                  <a:pt x="6321" y="1119"/>
                  <a:pt x="6337" y="1204"/>
                </a:cubicBezTo>
                <a:cubicBezTo>
                  <a:pt x="6370" y="1379"/>
                  <a:pt x="6413" y="1554"/>
                  <a:pt x="6437" y="1730"/>
                </a:cubicBezTo>
                <a:cubicBezTo>
                  <a:pt x="6436" y="1798"/>
                  <a:pt x="6451" y="2204"/>
                  <a:pt x="6379" y="2348"/>
                </a:cubicBezTo>
                <a:cubicBezTo>
                  <a:pt x="6345" y="2417"/>
                  <a:pt x="6258" y="2412"/>
                  <a:pt x="6195" y="2431"/>
                </a:cubicBezTo>
                <a:cubicBezTo>
                  <a:pt x="6134" y="2449"/>
                  <a:pt x="6113" y="2463"/>
                  <a:pt x="6061" y="2473"/>
                </a:cubicBezTo>
                <a:cubicBezTo>
                  <a:pt x="6010" y="2482"/>
                  <a:pt x="5960" y="2488"/>
                  <a:pt x="5911" y="2507"/>
                </a:cubicBezTo>
                <a:cubicBezTo>
                  <a:pt x="5818" y="2543"/>
                  <a:pt x="5841" y="2547"/>
                  <a:pt x="5761" y="2565"/>
                </a:cubicBezTo>
                <a:cubicBezTo>
                  <a:pt x="5656" y="2589"/>
                  <a:pt x="5542" y="2590"/>
                  <a:pt x="5435" y="2590"/>
                </a:cubicBezTo>
                <a:lnTo>
                  <a:pt x="12" y="2269"/>
                </a:lnTo>
              </a:path>
            </a:pathLst>
          </a:custGeom>
          <a:solidFill>
            <a:srgbClr val="2015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75564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Opening Campaign of WWI</a:t>
            </a:r>
            <a:endParaRPr b="0" lang="en-US" sz="4400" spc="-1" strike="noStrike">
              <a:solidFill>
                <a:srgbClr val="000000"/>
              </a:solidFill>
              <a:latin typeface="Arial"/>
            </a:endParaRPr>
          </a:p>
        </p:txBody>
      </p:sp>
      <p:sp>
        <p:nvSpPr>
          <p:cNvPr id="53" name="PlaceHolder 2"/>
          <p:cNvSpPr>
            <a:spLocks noGrp="1"/>
          </p:cNvSpPr>
          <p:nvPr>
            <p:ph type="subTitle"/>
          </p:nvPr>
        </p:nvSpPr>
        <p:spPr>
          <a:xfrm>
            <a:off x="2340000" y="479700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ndara"/>
              </a:rPr>
              <a:t>Mikaela JONES</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ndara"/>
              </a:rPr>
              <a:t>Matt PITKIN</a:t>
            </a:r>
            <a:endParaRPr b="0" lang="en-US" sz="3200" spc="-1" strike="noStrike">
              <a:solidFill>
                <a:srgbClr val="000000"/>
              </a:solidFill>
              <a:latin typeface="Arial"/>
            </a:endParaRPr>
          </a:p>
        </p:txBody>
      </p:sp>
      <p:sp>
        <p:nvSpPr>
          <p:cNvPr id="54" name=""/>
          <p:cNvSpPr/>
          <p:nvPr/>
        </p:nvSpPr>
        <p:spPr>
          <a:xfrm>
            <a:off x="971640" y="4797360"/>
            <a:ext cx="792000" cy="792360"/>
          </a:xfrm>
          <a:prstGeom prst="irregularSeal1">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427640" y="3933720"/>
            <a:ext cx="576000" cy="503280"/>
          </a:xfrm>
          <a:prstGeom prst="irregularSeal1">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08720" y="5516640"/>
            <a:ext cx="914400" cy="914400"/>
          </a:xfrm>
          <a:prstGeom prst="irregularSeal1">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716360" y="1916280"/>
            <a:ext cx="720720" cy="6984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United Kingdom of Great Britain and Ireland</a:t>
            </a:r>
            <a:endParaRPr b="0" lang="en-US" sz="40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ted the wor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valry with Germany in Naval Expan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involved when Germany invaded neutral Belg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out many of their allies</a:t>
            </a:r>
            <a:endParaRPr b="0" lang="en-US" sz="2800" spc="-1" strike="noStrike">
              <a:solidFill>
                <a:srgbClr val="000000"/>
              </a:solidFill>
              <a:latin typeface="Arial"/>
            </a:endParaRPr>
          </a:p>
        </p:txBody>
      </p:sp>
      <p:pic>
        <p:nvPicPr>
          <p:cNvPr id="83" name="" descr="File:Flag of the United Kingdom.svg">
            <a:hlinkClick r:id="rId1"/>
          </p:cNvPr>
          <p:cNvPicPr/>
          <p:nvPr/>
        </p:nvPicPr>
        <p:blipFill>
          <a:blip r:embed="rId2"/>
          <a:stretch/>
        </p:blipFill>
        <p:spPr>
          <a:xfrm>
            <a:off x="684360" y="1844640"/>
            <a:ext cx="3527280" cy="1763640"/>
          </a:xfrm>
          <a:prstGeom prst="rect">
            <a:avLst/>
          </a:prstGeom>
          <a:ln w="9360">
            <a:solidFill>
              <a:srgbClr val="000000"/>
            </a:solidFill>
            <a:miter/>
          </a:ln>
        </p:spPr>
      </p:pic>
      <p:pic>
        <p:nvPicPr>
          <p:cNvPr id="84" name="" descr="Location of United Kingdom">
            <a:hlinkClick r:id="rId3"/>
          </p:cNvPr>
          <p:cNvPicPr/>
          <p:nvPr/>
        </p:nvPicPr>
        <p:blipFill>
          <a:blip r:embed="rId4"/>
          <a:stretch/>
        </p:blipFill>
        <p:spPr>
          <a:xfrm>
            <a:off x="684360" y="4076640"/>
            <a:ext cx="3527280" cy="162252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Kingdom of Serbi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 became involved after a Serb assassinated Franz Ferdin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ia-Hungary declared war on Serb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ed through Russo-Serb alli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 descr="File:Flag of Serbia (1882-1918).png"/>
          <p:cNvPicPr/>
          <p:nvPr/>
        </p:nvPicPr>
        <p:blipFill>
          <a:blip r:embed="rId1"/>
          <a:stretch/>
        </p:blipFill>
        <p:spPr>
          <a:xfrm>
            <a:off x="5148360" y="1484280"/>
            <a:ext cx="3024000" cy="2016000"/>
          </a:xfrm>
          <a:prstGeom prst="rect">
            <a:avLst/>
          </a:prstGeom>
          <a:ln w="9360">
            <a:solidFill>
              <a:srgbClr val="000000"/>
            </a:solidFill>
            <a:miter/>
          </a:ln>
        </p:spPr>
      </p:pic>
      <p:pic>
        <p:nvPicPr>
          <p:cNvPr id="88" name="" descr="Location of Serbia"/>
          <p:cNvPicPr/>
          <p:nvPr/>
        </p:nvPicPr>
        <p:blipFill>
          <a:blip r:embed="rId2"/>
          <a:stretch/>
        </p:blipFill>
        <p:spPr>
          <a:xfrm>
            <a:off x="5148360" y="3860640"/>
            <a:ext cx="3028680" cy="227808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rench Third Republic</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rance assured Russia support if it took action protecting Serbia against Austria-Hung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re attacked through the Schlieffen Plan by 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ced the Germans towards the Battle of Marne</a:t>
            </a:r>
            <a:endParaRPr b="0" lang="en-US" sz="2800" spc="-1" strike="noStrike">
              <a:solidFill>
                <a:srgbClr val="000000"/>
              </a:solidFill>
              <a:latin typeface="Arial"/>
            </a:endParaRPr>
          </a:p>
        </p:txBody>
      </p:sp>
      <p:pic>
        <p:nvPicPr>
          <p:cNvPr id="91" name="" descr="File:Flag of France.svg">
            <a:hlinkClick r:id="rId1"/>
          </p:cNvPr>
          <p:cNvPicPr/>
          <p:nvPr/>
        </p:nvPicPr>
        <p:blipFill>
          <a:blip r:embed="rId2"/>
          <a:stretch/>
        </p:blipFill>
        <p:spPr>
          <a:xfrm>
            <a:off x="5076720" y="1484280"/>
            <a:ext cx="3097440" cy="2062080"/>
          </a:xfrm>
          <a:prstGeom prst="rect">
            <a:avLst/>
          </a:prstGeom>
          <a:ln w="9360">
            <a:solidFill>
              <a:srgbClr val="000000"/>
            </a:solidFill>
            <a:miter/>
          </a:ln>
        </p:spPr>
      </p:pic>
      <p:pic>
        <p:nvPicPr>
          <p:cNvPr id="92" name="" descr="Location of France">
            <a:hlinkClick r:id="rId3"/>
          </p:cNvPr>
          <p:cNvPicPr/>
          <p:nvPr/>
        </p:nvPicPr>
        <p:blipFill>
          <a:blip r:embed="rId4"/>
          <a:stretch/>
        </p:blipFill>
        <p:spPr>
          <a:xfrm>
            <a:off x="5076720" y="3933720"/>
            <a:ext cx="3100320" cy="213372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mpire of Russia</a:t>
            </a:r>
            <a:endParaRPr b="0" lang="en-US" sz="4400" spc="-1" strike="noStrike">
              <a:solidFill>
                <a:srgbClr val="000000"/>
              </a:solidFill>
              <a:latin typeface="Arial"/>
            </a:endParaRPr>
          </a:p>
        </p:txBody>
      </p:sp>
      <p:sp>
        <p:nvSpPr>
          <p:cNvPr id="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ed because of their alliance with Serbia that stated they would protect them from countries trying to inva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y declared war when Russia would not cease mobil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d two alliances: one with Serbia and one with France and Britain</a:t>
            </a:r>
            <a:endParaRPr b="0" lang="en-US" sz="2400" spc="-1" strike="noStrike">
              <a:solidFill>
                <a:srgbClr val="000000"/>
              </a:solidFill>
              <a:latin typeface="Arial"/>
            </a:endParaRPr>
          </a:p>
        </p:txBody>
      </p:sp>
      <p:pic>
        <p:nvPicPr>
          <p:cNvPr id="95" name="" descr="File:Flag of Russia.svg">
            <a:hlinkClick r:id="rId1"/>
          </p:cNvPr>
          <p:cNvPicPr/>
          <p:nvPr/>
        </p:nvPicPr>
        <p:blipFill>
          <a:blip r:embed="rId2"/>
          <a:stretch/>
        </p:blipFill>
        <p:spPr>
          <a:xfrm>
            <a:off x="900000" y="1484280"/>
            <a:ext cx="3095640" cy="2062080"/>
          </a:xfrm>
          <a:prstGeom prst="rect">
            <a:avLst/>
          </a:prstGeom>
          <a:ln w="3240">
            <a:solidFill>
              <a:srgbClr val="000000"/>
            </a:solidFill>
            <a:miter/>
          </a:ln>
        </p:spPr>
      </p:pic>
      <p:pic>
        <p:nvPicPr>
          <p:cNvPr id="96" name="" descr="Location of Russia">
            <a:hlinkClick r:id="rId3"/>
          </p:cNvPr>
          <p:cNvPicPr/>
          <p:nvPr/>
        </p:nvPicPr>
        <p:blipFill>
          <a:blip r:embed="rId4"/>
          <a:stretch/>
        </p:blipFill>
        <p:spPr>
          <a:xfrm>
            <a:off x="755640" y="4221000"/>
            <a:ext cx="3600360" cy="1671840"/>
          </a:xfrm>
          <a:prstGeom prst="rect">
            <a:avLst/>
          </a:prstGeom>
          <a:ln w="0">
            <a:noFill/>
          </a:ln>
        </p:spPr>
      </p:pic>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ibliograph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igdood, A. et al.</a:t>
            </a:r>
            <a:r>
              <a:rPr b="1" lang="en-AU" sz="1800" spc="-1" strike="noStrike">
                <a:solidFill>
                  <a:srgbClr val="000000"/>
                </a:solidFill>
                <a:latin typeface="Arial"/>
              </a:rPr>
              <a:t> </a:t>
            </a:r>
            <a:r>
              <a:rPr b="1" lang="en-AU" sz="1800" spc="-1" strike="noStrike" u="sng">
                <a:solidFill>
                  <a:srgbClr val="000000"/>
                </a:solidFill>
                <a:uFillTx/>
                <a:latin typeface="Arial"/>
              </a:rPr>
              <a:t>Twentieth Century History, 1900-1945,</a:t>
            </a:r>
            <a:r>
              <a:rPr b="0" lang="en-AU" sz="1800" spc="-1" strike="noStrike">
                <a:solidFill>
                  <a:srgbClr val="000000"/>
                </a:solidFill>
                <a:latin typeface="Arial"/>
              </a:rPr>
              <a:t> 2006</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lainey, G. </a:t>
            </a:r>
            <a:r>
              <a:rPr b="1" lang="en-AU" sz="1800" spc="-1" strike="noStrike" u="sng">
                <a:solidFill>
                  <a:srgbClr val="000000"/>
                </a:solidFill>
                <a:uFillTx/>
                <a:latin typeface="Arial"/>
              </a:rPr>
              <a:t>A Short History of the Twentieth Century,</a:t>
            </a:r>
            <a:r>
              <a:rPr b="0" lang="en-AU" sz="1800" spc="-1" strike="noStrike">
                <a:solidFill>
                  <a:srgbClr val="000000"/>
                </a:solidFill>
                <a:latin typeface="Arial"/>
              </a:rPr>
              <a:t> Penguin, Australia, 200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Arial"/>
              </a:rPr>
              <a:t>World Book Encyclopaedia 2003,</a:t>
            </a:r>
            <a:r>
              <a:rPr b="0" lang="en-AU" sz="1800" spc="-1" strike="noStrike">
                <a:solidFill>
                  <a:srgbClr val="000000"/>
                </a:solidFill>
                <a:latin typeface="Arial"/>
              </a:rPr>
              <a:t> United States of America, 2003</a:t>
            </a:r>
            <a:endParaRPr b="0" lang="en-US" sz="18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Opening Campaign</a:t>
            </a:r>
            <a:endParaRPr b="0" lang="en-US" sz="4400" spc="-1" strike="noStrike">
              <a:solidFill>
                <a:srgbClr val="000000"/>
              </a:solidFill>
              <a:latin typeface="Arial"/>
            </a:endParaRPr>
          </a:p>
        </p:txBody>
      </p:sp>
      <p:sp>
        <p:nvSpPr>
          <p:cNvPr id="5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ar was fought between the Central Powers and the Entente Pow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duke Franz Ferdinand’s assassi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untry had a reas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ther events to blame</a:t>
            </a:r>
            <a:endParaRPr b="0" lang="en-US" sz="2400" spc="-1" strike="noStrike">
              <a:solidFill>
                <a:srgbClr val="000000"/>
              </a:solidFill>
              <a:latin typeface="Arial"/>
            </a:endParaRPr>
          </a:p>
        </p:txBody>
      </p:sp>
      <p:pic>
        <p:nvPicPr>
          <p:cNvPr id="60" name="" descr="File:Kriegserklärung Erster Weltkrieg.jpg"/>
          <p:cNvPicPr/>
          <p:nvPr/>
        </p:nvPicPr>
        <p:blipFill>
          <a:blip r:embed="rId1"/>
          <a:stretch/>
        </p:blipFill>
        <p:spPr>
          <a:xfrm>
            <a:off x="755640" y="1557360"/>
            <a:ext cx="3255840" cy="501336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ente Powers vs. the Central Powers</a:t>
            </a:r>
            <a:br>
              <a:rPr sz="3200"/>
            </a:br>
            <a:r>
              <a:rPr b="0" lang="en-US" sz="2800" spc="-1" strike="noStrike">
                <a:solidFill>
                  <a:srgbClr val="000000"/>
                </a:solidFill>
                <a:latin typeface="Arial"/>
              </a:rPr>
              <a:t>Europe 1914</a:t>
            </a:r>
            <a:endParaRPr b="0" lang="en-US" sz="2800" spc="-1" strike="noStrike">
              <a:solidFill>
                <a:srgbClr val="000000"/>
              </a:solidFill>
              <a:latin typeface="Arial"/>
            </a:endParaRPr>
          </a:p>
        </p:txBody>
      </p:sp>
      <p:pic>
        <p:nvPicPr>
          <p:cNvPr id="62" name="" descr=""/>
          <p:cNvPicPr/>
          <p:nvPr/>
        </p:nvPicPr>
        <p:blipFill>
          <a:blip r:embed="rId1"/>
          <a:stretch/>
        </p:blipFill>
        <p:spPr>
          <a:xfrm>
            <a:off x="1042920" y="1557360"/>
            <a:ext cx="7058160" cy="507996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Central Powers</a:t>
            </a:r>
            <a:endParaRPr b="0" lang="en-US" sz="4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Location of Austria–Hungary"/>
          <p:cNvPicPr/>
          <p:nvPr/>
        </p:nvPicPr>
        <p:blipFill>
          <a:blip r:embed="rId1"/>
          <a:stretch/>
        </p:blipFill>
        <p:spPr>
          <a:xfrm>
            <a:off x="5148360" y="4076640"/>
            <a:ext cx="3024000" cy="207972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ustro-Hungarian Empi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Archduke, Franz Ferdinand, was assassinated in Sarajevo, Serbia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an Ultimatum of 10 request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 agreed to 9 so Austria-Hungary declared wa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ed to be known as the dominant power of Europe</a:t>
            </a:r>
            <a:endParaRPr b="0" lang="en-US" sz="2400" spc="-1" strike="noStrike">
              <a:solidFill>
                <a:srgbClr val="000000"/>
              </a:solidFill>
              <a:latin typeface="Arial"/>
            </a:endParaRPr>
          </a:p>
        </p:txBody>
      </p:sp>
      <p:pic>
        <p:nvPicPr>
          <p:cNvPr id="67" name="" descr="File:Flag of Austria-Hungary 1869-1918.svg"/>
          <p:cNvPicPr/>
          <p:nvPr/>
        </p:nvPicPr>
        <p:blipFill>
          <a:blip r:embed="rId2"/>
          <a:stretch/>
        </p:blipFill>
        <p:spPr>
          <a:xfrm>
            <a:off x="5148360" y="1484280"/>
            <a:ext cx="3024000" cy="2016000"/>
          </a:xfrm>
          <a:prstGeom prst="rect">
            <a:avLst/>
          </a:prstGeom>
          <a:ln w="9360">
            <a:solidFill>
              <a:srgbClr val="000000"/>
            </a:solidFill>
            <a:miter/>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Location of Germany">
            <a:hlinkClick r:id="rId1"/>
          </p:cNvPr>
          <p:cNvPicPr/>
          <p:nvPr/>
        </p:nvPicPr>
        <p:blipFill>
          <a:blip r:embed="rId2"/>
          <a:stretch/>
        </p:blipFill>
        <p:spPr>
          <a:xfrm>
            <a:off x="1116000" y="4149720"/>
            <a:ext cx="2951280" cy="20304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rman Empire</a:t>
            </a:r>
            <a:endParaRPr b="0" lang="en-US" sz="4400" spc="-1" strike="noStrike">
              <a:solidFill>
                <a:srgbClr val="000000"/>
              </a:solidFill>
              <a:latin typeface="Arial"/>
            </a:endParaRPr>
          </a:p>
        </p:txBody>
      </p:sp>
      <p:sp>
        <p:nvSpPr>
          <p:cNvPr id="7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ed in alliance to Central Pow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Russia joining Serb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d war on Russia after they did not cease mobil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d war on France after being denied safe passage through Belgium</a:t>
            </a:r>
            <a:endParaRPr b="0" lang="en-US" sz="2400" spc="-1" strike="noStrike">
              <a:solidFill>
                <a:srgbClr val="000000"/>
              </a:solidFill>
              <a:latin typeface="Arial"/>
            </a:endParaRPr>
          </a:p>
        </p:txBody>
      </p:sp>
      <p:pic>
        <p:nvPicPr>
          <p:cNvPr id="71" name="" descr="File:Flag of the German Empire.svg"/>
          <p:cNvPicPr/>
          <p:nvPr/>
        </p:nvPicPr>
        <p:blipFill>
          <a:blip r:embed="rId3"/>
          <a:stretch/>
        </p:blipFill>
        <p:spPr>
          <a:xfrm>
            <a:off x="1116000" y="1484280"/>
            <a:ext cx="2951280" cy="1965240"/>
          </a:xfrm>
          <a:prstGeom prst="rect">
            <a:avLst/>
          </a:prstGeom>
          <a:ln w="9360">
            <a:solidFill>
              <a:srgbClr val="000000"/>
            </a:solidFill>
            <a:miter/>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Kingdom of Ital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treaty with Entente Pow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ed neutral and joined the Entente Pow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front opened on the Austro-Italy b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sued for peace by Austria</a:t>
            </a:r>
            <a:endParaRPr b="0" lang="en-US" sz="2800" spc="-1" strike="noStrike">
              <a:solidFill>
                <a:srgbClr val="000000"/>
              </a:solidFill>
              <a:latin typeface="Arial"/>
            </a:endParaRPr>
          </a:p>
        </p:txBody>
      </p:sp>
      <p:pic>
        <p:nvPicPr>
          <p:cNvPr id="74" name="" descr="File:Flag of Italy (1861-1946).svg">
            <a:hlinkClick r:id="rId1"/>
          </p:cNvPr>
          <p:cNvPicPr/>
          <p:nvPr/>
        </p:nvPicPr>
        <p:blipFill>
          <a:blip r:embed="rId2"/>
          <a:stretch/>
        </p:blipFill>
        <p:spPr>
          <a:xfrm>
            <a:off x="5219640" y="1341360"/>
            <a:ext cx="2881440" cy="1920960"/>
          </a:xfrm>
          <a:prstGeom prst="rect">
            <a:avLst/>
          </a:prstGeom>
          <a:ln w="9360">
            <a:solidFill>
              <a:srgbClr val="000000"/>
            </a:solidFill>
            <a:miter/>
          </a:ln>
        </p:spPr>
      </p:pic>
      <p:pic>
        <p:nvPicPr>
          <p:cNvPr id="75" name="" descr="Location of Italy"/>
          <p:cNvPicPr/>
          <p:nvPr/>
        </p:nvPicPr>
        <p:blipFill>
          <a:blip r:embed="rId3"/>
          <a:stretch/>
        </p:blipFill>
        <p:spPr>
          <a:xfrm>
            <a:off x="5219640" y="3357720"/>
            <a:ext cx="2854440" cy="335736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toman Empire</a:t>
            </a:r>
            <a:endParaRPr b="0" lang="en-US" sz="4400" spc="-1" strike="noStrike">
              <a:solidFill>
                <a:srgbClr val="000000"/>
              </a:solidFill>
              <a:latin typeface="Arial"/>
            </a:endParaRPr>
          </a:p>
        </p:txBody>
      </p:sp>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neut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ain and France declared war on the Empire, after letting Germany use their lands and se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File:Ottoman Flag.svg">
            <a:hlinkClick r:id="rId1"/>
          </p:cNvPr>
          <p:cNvPicPr/>
          <p:nvPr/>
        </p:nvPicPr>
        <p:blipFill>
          <a:blip r:embed="rId2"/>
          <a:stretch/>
        </p:blipFill>
        <p:spPr>
          <a:xfrm>
            <a:off x="826920" y="1268280"/>
            <a:ext cx="3311640" cy="2211480"/>
          </a:xfrm>
          <a:prstGeom prst="rect">
            <a:avLst/>
          </a:prstGeom>
          <a:ln w="9360">
            <a:solidFill>
              <a:srgbClr val="000000"/>
            </a:solidFill>
            <a:miter/>
          </a:ln>
        </p:spPr>
      </p:pic>
      <p:pic>
        <p:nvPicPr>
          <p:cNvPr id="79" name="" descr="Location of Ottoman Empire">
            <a:hlinkClick r:id="rId3"/>
          </p:cNvPr>
          <p:cNvPicPr/>
          <p:nvPr/>
        </p:nvPicPr>
        <p:blipFill>
          <a:blip r:embed="rId4"/>
          <a:stretch/>
        </p:blipFill>
        <p:spPr>
          <a:xfrm>
            <a:off x="826920" y="3573360"/>
            <a:ext cx="3313440" cy="311472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Entente Cordiale Powers</a:t>
            </a:r>
            <a:endParaRPr b="0" lang="en-US" sz="44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22:23:23Z</dcterms:created>
  <dc:creator>PIT0003</dc:creator>
  <dc:description/>
  <dc:language>en-US</dc:language>
  <cp:lastModifiedBy>Matt</cp:lastModifiedBy>
  <dcterms:modified xsi:type="dcterms:W3CDTF">2009-03-11T10:27:17Z</dcterms:modified>
  <cp:revision>21</cp:revision>
  <dc:subject/>
  <dc:title>The Opening Campaign</dc:title>
</cp:coreProperties>
</file>